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995B-46DB-4253-BBB3-A3552D300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D4B7-F8C2-4210-A120-ECCBE515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3397-0820-4639-9882-93243DA72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7386-1057-4E0A-AE06-3AF8826BC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9001-7773-4F9A-AED2-80822049E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D0AC5-7657-4A4B-AED2-D20BFE59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253B0-22CD-4093-B36F-425F72EB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16E1-670D-4D67-ABFA-EA0F3FE4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C88F-10F5-4899-A3A0-12267C6A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1DE04-A216-4BE4-ABAF-7CF80DB7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7DD9-4B67-4836-B37F-D8E16E13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777F-DBB9-47F9-8530-FC0038C7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7DA3-3BE6-42D9-83D8-1C0E1FB7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D3A2-6937-490C-B32B-C44B319B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C848A-3702-4501-82D2-C306162B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1F64-FB2A-4A0B-9F87-B572FE7AD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5A51-E2F6-478D-BAD0-61A80C1A4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199D-408E-463A-95AA-C7966DAA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1721-6F3B-4F6F-BDB6-0EAA7C7B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A908-13E0-4447-B2AF-418FB285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4C8B-DA1C-4C1A-96D2-9441DD63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9C7C-6D35-4E02-AB9E-263055F0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8F3D-9BCE-4C84-9CC8-5A8781FE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D742-6E7D-4A68-854F-3C55308B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270A-F185-4612-93BA-C814E5DF28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7AB4-E488-4564-9742-70136F5997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haraohs, Pyramids, and Papyru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 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re About Egyp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phis and Thebes: cities with beautiful palaces, storehouses, and te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als helped control floodwaters from N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rful paintings in pyramids tell us about Egyptian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pyr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pyrus: paper made from stalk of papyrus plant (reed that grows along Ni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per was light and thin and stored easi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to keep records, write letters, and tell s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ld Kingdom (3100-2150 B.C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ypt divided into 2 kingdom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r Kingdom: area around del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per Kingdom: Southern area around N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rmer: ruler of Hierankonopolis conquered all villages and cities along Nile; name means “catfish”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pharaoh (king) of united Egyp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ile flows south to nor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209680" y="1371600"/>
            <a:ext cx="49197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mm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yptians believed in after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balmer: person paid to preserve dead bo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essed like embalming god, Anub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mmies: bodies preserved by being cleaned out and wrapped in linen band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ron: salt solution used to preserve bo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44578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haraoh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yptians believed pharaohs were g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a.’s had large burial chambers built and filled with food, clothing, furniture, and other things for the after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hufu: Pha. who had 3 great pyramids built in Giza along with the Sphin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yramids and Sphin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Pyramid: in Giza; built by Khufu; largest of 3 pyramids; built around 2500 B.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hinx: large stone statue near pyramids; lion’s body and human head (looked like Khuf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456264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13:06:51Z</dcterms:created>
  <dc:creator>erin.hendricks</dc:creator>
  <dc:description/>
  <dc:language>en-US</dc:language>
  <cp:lastModifiedBy>erin.hendricks</cp:lastModifiedBy>
  <dcterms:modified xsi:type="dcterms:W3CDTF">2011-09-14T14:23:18Z</dcterms:modified>
  <cp:revision>3</cp:revision>
  <dc:subject/>
  <dc:title>Pharaohs, Pyramids, and Papyrus</dc:title>
</cp:coreProperties>
</file>